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D84-CD18-4FEB-A5E9-024D840B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8B7-DB3D-493C-8224-389AC1D8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B16E-B863-4B8D-ABA5-669F5254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0ED-05D9-434B-9FE8-1386D870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35C9-4CE5-4693-89B2-8C7F4519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FF90-0A2A-44B4-B930-6F11375D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90C9-4DDA-4C29-B48A-BB974E34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5B1A-0696-44D6-A420-5C8E7784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7AA8-4B42-444F-8530-2F6A03BE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DF58-D577-4A13-882F-C6BC15F7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9426-F8F5-4600-BA8F-EF8E01CA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0832-E3CD-4DAD-8439-DECBA471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E9B4-7844-4108-A961-F7A1A1D1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6607-7223-4CC5-9121-C360C113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326E-990E-429C-80EF-EF863D35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9B9B-DBA1-4EBC-8C3B-A19CA15F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027F-22E2-4B1A-B6C0-86CF0ABC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836-63DE-4941-8065-EEA340B4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6163-BF51-48D1-B7AC-3FAA5208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6BCF-E4AF-45B3-9CE1-4DD105A4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4CB-2E45-4ACB-9C58-C278DB16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F0A-D573-4203-B945-72CCF53B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641A-4CB1-49E6-9181-BABF5E90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15F-C891-4C2E-A2DA-828FECFC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82D4-FCE5-40D7-AD49-2144C8142114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7A7D-70D1-4D19-B05E-4EA65BE33DBA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ac.com/cahoon/Site/Holiday_Podcast/Holiday_Podcast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Power of Podcast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VHEC Tech Conferenc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y Christi Caho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is podcasting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o introduce podcasting, som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nrichment students created a podcast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odcasting 101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vels of Podcast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tudents reading a written piec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oliday Podcas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ive News Lett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ahoon's Crew Liv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Vodcast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odcasting 101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truder Dril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cording A Podcas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Po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eed to use a microphon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5 iPods available for checkou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ouch doesn’t have microphone quite ye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arage Ban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n your personal laptop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n the computers in the Mobile Mac Lab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arage Band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pen Garage  Ban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reate A New Podcast Episod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ame Your Fil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dd Voi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dd Picture Fil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rom iPhoto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using the Grab application on your laptop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dd Jingl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eginn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5:09:49Z</dcterms:created>
  <dc:creator>vhcs</dc:creator>
  <dc:description/>
  <dc:language>en-US</dc:language>
  <cp:lastModifiedBy>vhcs</cp:lastModifiedBy>
  <dcterms:modified xsi:type="dcterms:W3CDTF">2008-02-18T21:47:59Z</dcterms:modified>
  <cp:revision>5</cp:revision>
  <dc:subject/>
  <dc:title>The Power of Podcasting</dc:title>
</cp:coreProperties>
</file>